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7F408-0C13-4703-AE6C-72DE875A85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84168-7FB3-4E74-9D26-4D05C7955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3C446-FC7E-472D-BFD5-316501FA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B64DA-5FD7-4521-81C4-F60CBCD24D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25515-0BC9-43F1-8C95-9F0AD6390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A751D-ABF9-4441-B879-32E0443EA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59E7E-86B6-45CE-BBEE-C12A3BB46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6F8DF-23E4-436F-9952-8E9610117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76178-B0F4-46AA-B6AA-B1FFFEA9F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1B495-A448-40D0-A88A-8E63E608B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DB6F2-BFA8-4637-9678-84E0E13ED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F6B4C-9F30-4B01-A951-39299D5E7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8641C-6327-44EF-A28D-88A0B106C61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68360" y="645336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24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　中国</a:t>
            </a:r>
            <a:r>
              <a:rPr b="1" lang="zh-CN" sz="24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30:15Z</dcterms:modified>
  <cp:revision>54</cp:revision>
  <dc:subject/>
  <dc:title>幻灯片 1</dc:title>
</cp:coreProperties>
</file>